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19F-94B1-4C7C-93CB-3D01CE41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022-C550-4B56-9D23-36B02FFD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8AE-6B8B-4E60-BA59-7CF769AB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F52-9441-431F-8A73-A6DB37AD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020-4E16-4ACD-BFA5-DC0CA338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32F-5C4F-46E9-87FB-3AEA5859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CE8-5498-442B-947B-F48A1BE5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BFA-B7D6-49C5-8C43-99F1723E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FA3-6F26-4985-97FC-E8A41E01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EE6-D357-4541-BB68-D02A974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7F7-0597-4789-BF53-0D207D3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4FF-A04A-4A46-9A8D-5DD0BB6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3910-6C67-4F84-B9F7-2AC5355E8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0FC-52F5-4127-BE1C-5AD2B4A7F5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0120" y="139212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8920" y="1773360"/>
            <a:ext cx="8500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l valore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aldostane è risultato pari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89 mil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ur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19,4% in pi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qu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’anno precedente. Nello stesso ann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 sono incrementate in misura ancora superio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+39%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fiorando i 400 milioni di euro (287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commerciale sull’este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resta dunque positivo e pari a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9 mil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uro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gra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apertu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’economia regionale (import+export su PIL) 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rementa passando dal 24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200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po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o del 3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po anni di forti oscillazioni “congiunturali”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2003 l’incremento annuo delle esportazioni valdostane 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, in due esercizi, addirittura con un tasso a due cif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3962520"/>
            <a:ext cx="6019920" cy="213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2DB-235D-4837-98BF-7DED114C1C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08560" y="1052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6960" y="144000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200" y="5935680"/>
            <a:ext cx="82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8% delle importazioni e l’87% delle 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stano legate alle attività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ttore metalmeccan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 esclusivamente a quelle dell’azienda siderurgica Cogne Acciai Speci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820880"/>
            <a:ext cx="86868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3954600"/>
            <a:ext cx="8686800" cy="19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D22-073E-4311-AD08-432C08B9DB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4520" y="1052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560" y="14158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2178000"/>
          <a:ext cx="8534160" cy="4067280"/>
        </p:xfrm>
        <a:graphic>
          <a:graphicData uri="http://schemas.openxmlformats.org/drawingml/2006/table">
            <a:tbl>
              <a:tblPr/>
              <a:tblGrid>
                <a:gridCol w="1325520"/>
                <a:gridCol w="668160"/>
                <a:gridCol w="798480"/>
                <a:gridCol w="717840"/>
                <a:gridCol w="715680"/>
                <a:gridCol w="746280"/>
                <a:gridCol w="745920"/>
                <a:gridCol w="744840"/>
                <a:gridCol w="745920"/>
                <a:gridCol w="662040"/>
                <a:gridCol w="663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New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a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-Is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E New 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a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-Is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19600" y="1757520"/>
            <a:ext cx="53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osizione percentuale di import ed export per area geografica – An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6353280"/>
            <a:ext cx="300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elaborazione Istituto Tagliacarne su dati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C69-CA0D-4BE9-8E13-3EA571364E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1760" y="133524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082960"/>
            <a:ext cx="18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3400" y="1944720"/>
            <a:ext cx="666432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7440" y="5307120"/>
            <a:ext cx="811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primi cinque Paes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stinatari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port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aldostan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orbono il 68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valore dell’export e sono la Svizzera ed i quattro maggiori Paesi dell’U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primi cinq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 cui provengono le importazion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ro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vec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co meno dell’8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’import totale e comprendono due Paesi non facenti parte dell’U.E. (Russia e Svizzer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alo le importazioni dalla Ci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nel 2006 sono passate dal 7 al 4% del totale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C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essere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° partner commerci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le importazioni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800" y="1623960"/>
            <a:ext cx="50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mi 30 Paesi di esportazioni ed importazioni valdostane. Anni 2005 e 2006, valori in e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4120" y="5129280"/>
            <a:ext cx="29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: elaborazioni Istituto Tagliacarne su dati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C0A-A408-48DF-87D0-15D34A54A6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60840" y="99864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4160" y="137952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COMMERCIO INTERN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3160" y="4311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6560" y="4656240"/>
            <a:ext cx="879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e anco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ercentuale di prodotti classificabili come “tradizionali e standard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tra le impor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 le esportazioni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stualmente, si riducono le quote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i “specializzati e high-tech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l’import passano dal 13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’11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l’export scendono dal 15 a meno del 1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confronto con i dati nazionali e dell’Italia Settentrionale evidenzia dunqu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 ruolo più limit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iocato dalle a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i sull’estero svolte dalle imprese valdostan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te a produzioni di beni ad elevato contenuto tecnolog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17600"/>
            <a:ext cx="8072280" cy="203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D46-8C36-4903-BA42-96A9F817BB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4520" y="111276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1880" y="1494000"/>
            <a:ext cx="45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’INTERSCAMBIO  INTERNAZIONALE DI 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2255760"/>
          <a:ext cx="4876560" cy="3219480"/>
        </p:xfrm>
        <a:graphic>
          <a:graphicData uri="http://schemas.openxmlformats.org/drawingml/2006/table">
            <a:tbl>
              <a:tblPr/>
              <a:tblGrid>
                <a:gridCol w="1066680"/>
                <a:gridCol w="609480"/>
                <a:gridCol w="685800"/>
                <a:gridCol w="609840"/>
                <a:gridCol w="685800"/>
                <a:gridCol w="609480"/>
                <a:gridCol w="609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Viag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.ni di eur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0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2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.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2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4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6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5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6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5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1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Viag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.ni di eur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b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8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8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6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4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4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.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.8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4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87000" y="187488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lussi valutari da e verso l’estero per Serv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2200" y="2335320"/>
            <a:ext cx="361296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 si conferma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ona 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voce “viaggi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incrementa i flussi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ta del 37% ed il saldo netto del 23%,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tendenza rispetto ai dati nazionali e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d-Italia ed a conferma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contro della clientela straniera all’offer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tica della Valle d’A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interscambio di serviz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l’este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ppresenta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ota pari all’11% del P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, se aggiunto al valore dell’interscamb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erciale di beni (import + export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g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apertura dell’economia valdostana pas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29 a circa il 40 per c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520" y="5592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Ufficio Italiano Camb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E4C-D7F3-4472-90F2-BAF6B6530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79800" y="2365200"/>
            <a:ext cx="655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SE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E1F-A6EA-4B15-AA9E-8E0E12432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7320" y="10000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600" y="1697040"/>
            <a:ext cx="812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ne 2006 in Valle d’Aosta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istrate 14.703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cui 12.728 risul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ive (86,6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o a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quadro è sostanzialmente sta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83 imprese registrate e –32 attive), an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 nell’anno si evidenzia, all’interno del turn-over,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duzione del numero di iscri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2%)  insieme 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 più rileva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mento delle cessa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so di natalità si ridu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unque rispetto a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6,5 al 6,3%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llo di mor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a dal 6,1 al 6,9%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enerando un saldo netto negativo (-0,6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47920" y="3819600"/>
          <a:ext cx="6629400" cy="14475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7880"/>
                <a:gridCol w="946080"/>
                <a:gridCol w="946080"/>
                <a:gridCol w="947880"/>
                <a:gridCol w="94752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rit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ss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t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05800" y="56484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livell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2006 il numero di imprese è cresciuto di 73.333 unità (+1,2%) evidenziando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sso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nuove iscrizion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6,9%  ed un tasso di mortal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cessazion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5,7%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60800" y="3398760"/>
            <a:ext cx="29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grafia delle imprese in Valle d’A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56480" y="5327640"/>
            <a:ext cx="231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Unio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39A-A253-471C-9C16-61E107A97E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975040" y="9586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800" y="1503360"/>
            <a:ext cx="858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l 1998, il numero di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rimas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sta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facendo registrare un incremento dello 0,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aminando i macro-settori economici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andamento appare assai differenzi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si riducono di circa 1.000 unità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e agrico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-28%), mentre si incrementano il comparto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600 imprese pari a +27%) e qu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+500 imprese pari a +6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compar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rattivo-manifatturie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periodo, le imprese si riducono del 3% circa, passando da 1230 a 118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168720"/>
          <a:ext cx="2819520" cy="1449360"/>
        </p:xfrm>
        <a:graphic>
          <a:graphicData uri="http://schemas.openxmlformats.org/drawingml/2006/table">
            <a:tbl>
              <a:tblPr/>
              <a:tblGrid>
                <a:gridCol w="762120"/>
                <a:gridCol w="528480"/>
                <a:gridCol w="538200"/>
                <a:gridCol w="533520"/>
                <a:gridCol w="457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ol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z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5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724280" y="2940120"/>
          <a:ext cx="3200400" cy="1816200"/>
        </p:xfrm>
        <a:graphic>
          <a:graphicData uri="http://schemas.openxmlformats.org/drawingml/2006/table">
            <a:tbl>
              <a:tblPr/>
              <a:tblGrid>
                <a:gridCol w="1143000"/>
                <a:gridCol w="457200"/>
                <a:gridCol w="533520"/>
                <a:gridCol w="533520"/>
                <a:gridCol w="5331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ob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. Finanziaria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9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berghi e Ristoraz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3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. Prof/impre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0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. al dettagl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canici/riparaz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9280" y="2787480"/>
            <a:ext cx="251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 per macro-settor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5360" y="2695680"/>
            <a:ext cx="321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Dinamica di alcuni comparti dei serviz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000" y="5149800"/>
            <a:ext cx="837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 i servizi, cres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il numero di imprese operanti nei settori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ziario avanz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 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informatica, immobiliare, intermediazione finanziaria e consulenza)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ontrazione paion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arti più tradizion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egati al commercio ed ai servizi al dettagl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alberghie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in particolare queste ultim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menta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13,4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5880" y="468936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6520" y="476892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4E8-FB86-401B-A0D9-7696C6DE08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51360" y="9921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6040" y="1601640"/>
            <a:ext cx="8731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le imprese registrate com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cietà di capit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ono 1.888 (+3% rispetto al 2005 e +40%  rispetto al 1998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appresentand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quasi il 13% del totale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il 19% a livello nazion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cal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vec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società di pers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ra il 2005 e il 2006 (-0,5%), mentre, rispetto al 1998, esse sono cresciute dell’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ante la fless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numer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ditte individua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8.137 contro le 8.951 del 1998) che peraltro continuan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appresenta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55% del totale delle imprese valdost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a il 1998 e il 2006, crescono infine di oltre il 20% le imprese con “altre” forme giuridiche trainate da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oper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particolare sociale, e da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no-profit.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971800" y="3811680"/>
          <a:ext cx="2971800" cy="196056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160"/>
                <a:gridCol w="533520"/>
                <a:gridCol w="533520"/>
              </a:tblGrid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età di Capit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età di Pers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tte individu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e for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899440" y="3430440"/>
            <a:ext cx="26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 per forma giuridica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4040" y="5792760"/>
            <a:ext cx="203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C89-AD5C-4C6F-9477-F906B72A83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5960" y="2657520"/>
            <a:ext cx="4388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95B-1C6A-4C0E-87AB-5F9F7C626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7320" y="10126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6120" y="1393920"/>
            <a:ext cx="8760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artigi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gistrate  nel 2006 sono 4.126 (4.133 nel 2005) e quelle attive 4.118 (4.122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e ultime rappresen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32% delle imprese attive valdost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40% delle imprese extra-agrico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reg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ggregan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settori, le imprese artigi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sono circa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5% del comparto industr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sen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ett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82% delle 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16% delle imprese dei servizi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i dati medi nazionali risult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ivamente pari al 67, 75 e 17 per c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indicatori regionali, rispetto al 2000,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crescita nei comparti industria ed edilizia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appaiono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e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o nel terziar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femmini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6 sono in lieve calo rispetto al 2005 (3.761 contro 3.782 quelle registrate e 3.353 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361 quelle attive) 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ppresentano il 26%  delle imprese valdosta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forma giuridica, ess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 in larga par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71% delle attiv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tte individu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9% del tot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lo il 4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esse è strutturata  nella form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età di capit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la regione sono classifica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rici femminili 10.430 donne, il 45% del totale delle donne occup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esse, 3.869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37%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rivestono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uolo di amministrat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.33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32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)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 person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2.396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il 2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ul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tolari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ù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% di es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6.140 donne) hanno il ruolo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ci o amministrat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società di pers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sett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maggior presenza di donne imprenditrici risultano essere quell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berghiero e della 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94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 al 18,6%),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ercio al dettagl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35 pari al 16,6%) e quello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icoltur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956 pari al 9% del to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e donne imprenditrici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CE1-118F-43F0-A74E-25A1ED3876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27320" y="97164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352520"/>
            <a:ext cx="8686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apida e costante crescita il numero di imprese co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ori extra-comunit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fine 2006 esse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2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8,2% rispetto all’anno precedente) e rappresenta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4,2% del tot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9% nel 200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si 2/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gli imprenditori extra-comunita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 un’età compresa tra i 30 e i 50 an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risulta titolare/socio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settore preponder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quello d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n 145 imprese (il 23% del totale). Segue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merc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7%)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risto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2%), anche se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senz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renditorial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ulta comunqu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fusa in tutti i comparti di attiv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35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gli imprenditori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provenienza europ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di cui l’11% ripartito tra rumeni ed albanesi),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30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i casi ess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nord-africa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20% ha origini latino-american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52480" y="3867120"/>
          <a:ext cx="5867640" cy="2270160"/>
        </p:xfrm>
        <a:graphic>
          <a:graphicData uri="http://schemas.openxmlformats.org/drawingml/2006/table">
            <a:tbl>
              <a:tblPr/>
              <a:tblGrid>
                <a:gridCol w="1173240"/>
                <a:gridCol w="1173600"/>
                <a:gridCol w="1173600"/>
                <a:gridCol w="1173240"/>
                <a:gridCol w="1173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/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 Impre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à imprendit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0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49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tre 50 an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o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ministrator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ori di attivit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ruzio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rc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tor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enienza G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a non 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d-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o-Sud Am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681920" y="356220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mprese/imprenditori extra-comunitari in Valle d’Ao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61400" y="6137280"/>
            <a:ext cx="22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: Uni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CCA-723D-42D2-863A-AF0FA754C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75040" y="98748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8960"/>
            <a:ext cx="882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e imprese annualmente iscritte, tra il 2002 e il 200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in calo la quota di “nuove imprese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petto a que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va a “trasformazioni, scorpori, separazione o filiazione di impresa”: dal 52% del 2002 (449 nuove imprese) al 49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2003 (401) al 47% del 2004 (42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ndenzialmente in cal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period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quota di nuove imprese “femminili”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al 29,7% del 2002 al 23,9 del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el 2002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ercentuale di nuov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vviate d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renditori di età inferiore ai 25 an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8,8%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 che si riduce nei due anni successivi assestandosi intorno al 12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3578400"/>
          <a:ext cx="6477120" cy="2184120"/>
        </p:xfrm>
        <a:graphic>
          <a:graphicData uri="http://schemas.openxmlformats.org/drawingml/2006/table">
            <a:tbl>
              <a:tblPr/>
              <a:tblGrid>
                <a:gridCol w="2209680"/>
                <a:gridCol w="1067040"/>
                <a:gridCol w="1143000"/>
                <a:gridCol w="990360"/>
                <a:gridCol w="1067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/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ove iscri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“nuove imprese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endi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do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-49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anni e ol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071360" y="3121200"/>
            <a:ext cx="39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uove imprese e imprenditori – Valle d’Aosta  2002 -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50840" y="5848200"/>
            <a:ext cx="22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nte: Unioncamere – Movimpres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757-CAFA-49C7-BD87-41F837E9CE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03640" y="9399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1397160"/>
            <a:ext cx="4705200" cy="177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2200" y="5294160"/>
            <a:ext cx="876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zionario il livello di imprese messe in liquid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nel periodo 2000-2006 con una % sul to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co al di sopra del dato nazionale (1,5 contro 1,3 per cen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significativo calo invece i fallimen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10 nel 2006), con un’incidenza (7 ogni 10.000 imprese) che è la metà del d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 nazionale (14 ogni 10.000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133720" y="3301920"/>
            <a:ext cx="472428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327-5284-4E84-BD13-05E0BD5285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27320" y="97776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33720" y="1434960"/>
            <a:ext cx="4592520" cy="110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2320" y="2806560"/>
            <a:ext cx="8708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 dati relativi al mercato del lavoro restano positiv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 la Valle d’Aosta. Nel II trimestre 2006, il tasso di disocc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azione si mantiene al livello del 3% ed il tasso di occupazione (67%) è tra i più elevati del Pae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i 53.133 occupati rilevati dall’ISTAT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28,2% sono lavoratori non dipendent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26% in Itali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 punto di vista setto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9,9% è occupato nei serviz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i cui l’11,6% nel commerci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24,5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l’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di cui il 13% nel settore edile), mentre il resta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,6% opera in agricoltu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4788000"/>
          <a:ext cx="7112160" cy="1193760"/>
        </p:xfrm>
        <a:graphic>
          <a:graphicData uri="http://schemas.openxmlformats.org/drawingml/2006/table">
            <a:tbl>
              <a:tblPr/>
              <a:tblGrid>
                <a:gridCol w="914400"/>
                <a:gridCol w="1117800"/>
                <a:gridCol w="1015920"/>
                <a:gridCol w="1015920"/>
                <a:gridCol w="1015920"/>
                <a:gridCol w="1016280"/>
                <a:gridCol w="10159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costruzi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 cui 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 a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971280" y="4494240"/>
            <a:ext cx="308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Occupati in VdA nel II semestre 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5240" y="6080040"/>
            <a:ext cx="84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IST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760" y="2577960"/>
            <a:ext cx="85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ST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D9D-5EBB-41A3-B6AA-D88AE583AF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51360" y="96192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1495440"/>
            <a:ext cx="7423200" cy="1533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38080" y="4467240"/>
            <a:ext cx="7543800" cy="1878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8080" y="3095640"/>
            <a:ext cx="811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numero medio di addet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unità locale nel 2004 è lieve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di sotto del dat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3 contro 3,5) e si discosta maggiormente dal dato medio delle regioni settentrionali (3,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i diversi settori, particolarmente rilevante è l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ostamento in negativo nell’industr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nel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tività finanziarie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i servizi pubblic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dimensioni medie delle UL valdostane risultano tra le più elevate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360" y="1227240"/>
            <a:ext cx="27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tti per dimensioni di Unità Loc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8600" y="4162320"/>
            <a:ext cx="32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tti per Unità Locali per settore econ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2320" y="6369120"/>
            <a:ext cx="2872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ISTAT, Registro Statistico delle Unità Locali 20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633-045C-4ABF-9B21-B726195867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355920" y="95400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MPRESE E GLI ADDE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7400" y="1411200"/>
            <a:ext cx="5234040" cy="258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6680" y="4230720"/>
            <a:ext cx="8635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Valle d’Aosta nel 2004 risultano ancor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iù forti i fenomeni di attrazione rispetto a quelli di delocalizz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4300 risultano gli occupati in UL di imprese con sede fuori dal territorio, mentre il fenomeno inverso interessa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000 occupati in meno, con u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aldo percentuale del 3,6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gno inverso nelle altre aree prese in esam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la sola eccezione del Nord-Est che, nel suo insieme, evidenzia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aldo ancora positivo nel 2004, seppur risultante da percentuali inferiori a quelle valdost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altre aree del Nor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cluse Trento e Bolzan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mbrano aver già avvi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modo più decis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ocessi pi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rcati di delocalizzazione dei loro processi produt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60C-6A00-406B-AD1F-BD8B1165F3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16000" y="2765520"/>
            <a:ext cx="7128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 TE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CUNI “FOCUS” SPECIF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6FF-D3D3-490A-A7BB-7A55A3995B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22520" y="1131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436760"/>
            <a:ext cx="8077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lassifica dell’indagine del Sole 24 Ore su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posizio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l’anno 2006 Aosta (l’intera Valle d’Aosta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15° pos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i 103 territori provinciali presi in esame, preceduta da tre Province toscane (Siena, Firenze e Grosseto), due del Friuli Venezia-Giulia (Trieste e Udine), dalle due Province autonome di Trento e Bolzano, da 5 Province dell’Emilia-Romagna (Bologna, Ravenna, Rimini, Forlì e Reggio Emilia),  da Milano e dalla Provincia veneta di Bellu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indice medio della Va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la media nazionale di circa l’11 per cento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disc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 quello di Sie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l primo posto nella graduatoria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’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indici relativi a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nore di v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osizionano la Valle all’8° posto grazie a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e aggiunto per abit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7,6 mila euro contro una media nazionale di 21,6 nel 2005) ed a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elle famigli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al primo posto con un indice sintetico, superiore del 41% a quello medio nazional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consumi inter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e famigli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sono mantenuti elev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sono cresciuti allo stesso tasso medio nazionale) ed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ddito lordo disponib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mplessivo delle famiglie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iuto del 4,8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3,9 per l’Italia e 4,4 nel Nord-Oves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14400" y="4560840"/>
            <a:ext cx="7645320" cy="203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723-08AF-455A-8F65-E724558E03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70240" y="110340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00200" y="3313080"/>
            <a:ext cx="6095880" cy="1609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16520" y="5153040"/>
            <a:ext cx="87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consumi energetic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no aumentati in Valle d’Aosta tra il 2004 e il 2005 dell’1,2% (+3,2 in Italia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-capite resta eleva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44% rispetto al dato nazionale), anche se parte dei consumi interni è da mettere in re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e presenze turistich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composizione dei consumi di energia nella regione resta, come a Bolzano, relativ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ù orientata s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rziario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 la quota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omestic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centualmente inferiore a quella media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14400" y="1407960"/>
            <a:ext cx="7477200" cy="176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B0D-2EF2-416C-8518-B14C1A20F9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6084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760" y="1690560"/>
            <a:ext cx="8451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l 200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per la prima volta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opol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a Valle d’Aosta ha supera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125 mila un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lessivamente, rispetto all’anno precedente, la popolazione resi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cresciuta dell’ 8,6 per mi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rag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naturale negativ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o 0,3 per mil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di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ldo migratorio positivo dell’8,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mil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saldo migratorio è a sua volta la risultante di migrazioni “interne” pari al +4,8 per mille e, per la restante part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migrazioni dall’es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2006 conferma comunque i trend demografici in corso in Valle d’Aosta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polazione reside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e pi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locemente della media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inata dalla componente migratoria che, nel suo complesso, risulta secon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al dato dell’Emilia Romagna (+10,8 per mille) e pari a quello della  provincia di Bolz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4205160"/>
          <a:ext cx="6210360" cy="143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205160"/>
                    <a:ext cx="62103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66840" y="137484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A POPO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601-AAB4-440B-B894-3B19B299F3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70240" y="10573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1438200"/>
            <a:ext cx="7307280" cy="284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22520" y="4649760"/>
            <a:ext cx="8471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duzione di rifiuti urbani è elev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 anche il confronto con aree a forte vocazione turistica come Bolz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 evidenzia la port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quota di “differenziata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peraltr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la media nazionale ed in cresc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8% contro il 24%), an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 essa nell’anno 2005 è ancora assai inferiore a quella che si registra a Bolzano e a Trento (4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l’anno 2006, le previsioni sono di un’ulteriore importante crescita di tale quo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97F-7D50-4E36-A8F8-EABE841862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46200" y="104616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alità della vita e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360" y="4017960"/>
            <a:ext cx="8768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parco veico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è rilevan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d il numero medio di vetture per abitante è quasi doppio rispetto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o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he 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di carburante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ono elevati, anche s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orzionalmente inferio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l numero di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matricolati. Infatti, rispetto ad essi, i consumi di carburante si allineano al dato italiano e sono addirittura inferi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lli di Nord-Ovest e Nord-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traffico merci su strad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benché in presenza di due trafori alpini di grande rilievo per la circolazione internaziona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stra un ind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 la Valle d’Aosta (espresso in tonnellate di merci in ingresso e uscita per abitante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po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e al dato medi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26,3 contro 24,9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 molto al di sotto sia di quello piemontese (34,1) 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 quello del Trentino-Alto Adi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 doppio (48,3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9480" y="1503360"/>
            <a:ext cx="7696440" cy="22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CDD-C5A9-49D8-8AC8-915D8635C9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48360" y="1031760"/>
            <a:ext cx="21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336680"/>
            <a:ext cx="8643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bilancia dei pagamenti tecnologic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videnzia per la Valle d’Aosta nel 2005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sizione netta positiv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+375 mila euro), ma a front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olumi di scambi assai modest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 incassi e pagamenti rispettivamente per 1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,6 milioni di eur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80%  di tale interscambi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relativo 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udi tecnici ed engineering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mentre del tutto irrisori sono i valori rela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llo scambio e/o allo sfruttamento di brevetti o inven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 dati risul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calo rispetto all’anno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indice sintetico di “capacità innovativa”,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laborato dall’ISTAT e dato dalla spesa sostenuta per attività di R&amp;S della PA, delle Università e delle imprese pubbliche e private in percentuale sul PIL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 colloca molto al di so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ella media nazionale (0,3 contro 1,1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0" y="4156200"/>
          <a:ext cx="4572000" cy="1927080"/>
        </p:xfrm>
        <a:graphic>
          <a:graphicData uri="http://schemas.openxmlformats.org/drawingml/2006/table">
            <a:tbl>
              <a:tblPr/>
              <a:tblGrid>
                <a:gridCol w="1295280"/>
                <a:gridCol w="685800"/>
                <a:gridCol w="685800"/>
                <a:gridCol w="685800"/>
                <a:gridCol w="609480"/>
                <a:gridCol w="609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 d’Ao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mo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tino A-Adi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O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-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287440" y="61372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nte: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4548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6240" y="3699000"/>
            <a:ext cx="269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ndice regionale di capacità innov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795-42D0-484C-A8E6-76411BA4E9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501000" y="9144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5410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7DD-2370-4A2F-981D-6AD26F184E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501000" y="9144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26040" y="1371600"/>
            <a:ext cx="4352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personale adde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lle attività i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&amp;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, in V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’Aosta, numericamente ridotto e risulta di ent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feriore alle 200 unità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rca 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à è impiegato da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il 23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in istituzioni private non-prof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 volumi di spes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econdo l’ISTAT sono di poco s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iori a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 milioni di eu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i cui quas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/3 sostenu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a cui sono peraltro indirizzati specifi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stegni finanziar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parte della Reg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attività brevettuale è limita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a in valore assolut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a in rapporto alle dimensioni relative della reg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nche se il tren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nell’ultimo bienni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isulta in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550692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871-0B86-450E-9CF6-030A466653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76960" y="92376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novazione e tec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2800" y="1533600"/>
            <a:ext cx="8679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trastanti i dati ISTA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relativi alla diffusione e all’utilizzo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cnologie informatich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Valle d’Aos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mportanti sono gl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forzi effettuati dalla Amministrazione reg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piani e programmi di informatizzazio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particolare per l’ammodernamento della pubblica amministrazione loc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effetti i dati relativi alla diffusi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ll’informatizzazione nei comuni valdostani colloca la Valle al livello pi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lev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ul piano nazionale (cfr recente indagine ISTAT sull’ ICT nella PA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gnificativo anche il dato relativo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rado di utilizzo di internet nel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 più di 10 addetti) che evide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una percentual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ddetti connessi ad internet pari al 39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tro un dato medio nazionale del 28 e un indice per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ord-Ovest del 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iù critic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vece il dato relativo a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usione della banda larga tra le 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 più di 10 addetti). In ques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mbit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62% della Valle d’Aosta risulta inferio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a al dato medio nazionale (70%), sia a quello di Nord-Ov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74%), Nord-Est (70%) e Trentino-Alto Adige (7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ch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diffusione di siti web delle imprese evidenzia un certo ritard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: in Valle d’Aosta la percentuale di impr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he ne disp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49%)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inferiore sia alla media nazionale (57%) sia a quelle di Nord-Ovest (62%), Nord-Est (58%)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rentino Alto-Adige (67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a le famigli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la diffusione di internet è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stanzialmente in linea con il dato medio 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il 34% 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ichiara di possedere una conness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dato è solo di poco inferiore a quello medio delle regioni del Nord (38%) e a quello di Trento e Bolzano, p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ntrambi pari al 39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C6E-5879-4B5E-9817-F2D552FBB8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25400" y="958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4480" y="1568520"/>
            <a:ext cx="863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e richiamato nei dati di contest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flussi monetari provenienti dall’estero sono in cresci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il 2004 e 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06 milioni di euro contro 224 con un incremento del 37%) e per la quasi totalità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 relativi al turism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stima dell’Ufficio Italiano Cambi su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ero di viaggiatori stranie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destinazione Valle d’Aosta è cresc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, dopo una flessione fatta registrare nel 2004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rna sopra il milione di un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, incrementandosi nel 20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l’8,3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00600" y="2940120"/>
            <a:ext cx="3695760" cy="190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33520" y="2940120"/>
            <a:ext cx="3925800" cy="194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4400" y="5226120"/>
            <a:ext cx="866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 il 2005 e il 2006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’U.I.C. registra però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zione della spes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i viaggiatori stranieri in Valle d’Aosta (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lioni di euro), che evidenzia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ata riduzione della spesa media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da circa 290 a 222 mila eu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i a u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23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’ da supporre che, ad un numero crescente di viaggiatori stranieri in Valle, si accompagni tra il 2005 e il 2006 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cremento più forte di turisti di passaggio rispetto a quelli soggiornanti una o più not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C0F-A756-45DB-9F82-A347722C86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34908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95280"/>
            <a:ext cx="7999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effetti, i dati s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rrivi e presenze turistich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forniti dall’Assessorato al Turismo della Regione Valle d’Aosta mostrano un quadro dettagliato e articol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rrivi compless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e strutture ricettiv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el 2006 crescono di circa il 2% rispetto all’anno preceden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torn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ui livelli massimi registrati nell’anno 2003 (circa 870 mil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n omogene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isultan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 trend estivo ed inverna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il primo è in crescita (+3,8%), mentre il secondo evidenzia 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essione dell’1,9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e presenze totali,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seppur in crescita rispetto al 2005 (+1,9%),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ono ancora di oltre il 6% al di sot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quelle regi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el 2003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quasi 3,5 milioni) a conferma di una durata media delle presenze in calo (da 4 a 3,7 notti). Anche nelle prese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 2005 e 2006 si registra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damento in crescita nell’estiv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+5% dopo due anni di forte calo) ed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lessione nell’inverna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-2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ra il 2002 e il 2006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ze estiv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mostrano una lieve flessione di quelle italiane (-2,5%, assestate introno a 1,2 milion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scita di circa il 17% di quelle stranie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268 a 314 mil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o stesso periodo,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ze inver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videnziano invec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n cal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circa il 15%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i quelle nazion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950 a ci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800 mila) ed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mportante crescita di quelle stranier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570 a oltre 700 mila presenze) che, nell’inverno 2006, si avvici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ano quantitativamente a quelle itali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45% di esse nel 2006 proviene dal Regno Unito e risultano in crescita i clienti provenienti da Francia, Belgio, Russi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agna, Polonia e Scandinav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e due stagioni “forti” (estate e inverno) negli ultimi 5 anni si registra u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alo delle presenze italia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l’8% (da 2,2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 m.ni) accompagnato da una robust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scita della componente ester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(da 840 mila a oltre 1 milione con un +22%) che 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006 rappresent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/3 della clientela turistica della Val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803-B615-44C1-8CEF-EF8A951A0C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0136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829120" cy="407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52B-6271-4EC7-8BF7-0E886988BC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501360" y="91440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urismo e flussi turist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0000" y="1523880"/>
            <a:ext cx="8465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capacità ricettiv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hotel e RTA è nel 2006 di circ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3.600 posti let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+3% rispetto al 2000 e –200 p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etto rispetto al 2005) co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assi di occupazione mensi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strutture alberghiere che nello stesso anno super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50%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esta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i  mesi di luglio e agosto negli ambiti delle AIAT di Cogne, Monte Bianco, Aosta e Monte 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nelle altre nel solo mese di agosto)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 inver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Valtournenche (da gennaio ad aprile),  La Thuile-P.S.Bernard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onte Bianco (da gennaio a marzo) e Aosta e Monte Rosa (solo febbraio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6941880" cy="2452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61000" y="5497560"/>
            <a:ext cx="86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offerta di posti letto “commerciali”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cludendo gli extra-alberghieri e le case-appartamenti in affitto, non arriva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6 mila unità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tro i circ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ila posti letto totali di Trento, Bolzano e dell’Alta Savo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1E7-5147-488B-ABE3-1381863FA2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08560" y="91440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34784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8440" y="62085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nt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IST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5DC-9B00-4A8E-8328-79114BBF97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66120" y="11286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920" y="1851120"/>
            <a:ext cx="811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 un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te di sportelli banc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ttivi di poco inferiore alle 100 unità, la Valle d’Aosta registra una pres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caria sul proprio territorio diffusa e capillare, quantitativ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spondente alle esigenze del territo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2602080"/>
            <a:ext cx="8610480" cy="2516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62440" y="5432400"/>
            <a:ext cx="88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ero di sportelli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cui nel 2005 si aggiunge una rete 114 ATM, è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stabile dal 2002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ntre, 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’eccezione di Bolzano, nel resto del Paese, con un minor rapporto tra abitanti e sportelli, esso è in progressivo aume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D03-AF15-415D-9CA7-47371B4683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90160" y="1050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8600" y="1457280"/>
            <a:ext cx="8686800" cy="2209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28600" y="3819600"/>
            <a:ext cx="861048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6D0-CB9D-4C4C-9DF0-A73A93E238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042440" y="108576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9360" y="1415880"/>
            <a:ext cx="8859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periodo 1999-2005,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’ammontare dei depositi in Valle d’Aosta è cresciuto ad un tasso min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qu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 nazionale (24% contro il 33) ed il su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 medio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è divenu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i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quello medio delle a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tentrionali del Pa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he nell’ultimo anno, tale trend trova conferma (5% Valle d’Aosta, 7% Italia, 6,5% N-Ovest, 8% N-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contrari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li impieghi nei sei anni si sono increment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 65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52% a livello nazionale) ed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ro valore pr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ent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avvicina al valore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ur restando inferiore del 30-40% al dato medio dell’Italia del No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le trend, particolarmente sostenuto tra il 1999 e il 2002, sembra rallentare nel periodo successivo e, tra il 2004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2005, 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ita degli impieghi segna un modesto +3,6%, contro il 7,6% del totale nazio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linea con i dati forniti dal Centro Studi Unioncamere sugli indicatori di bilancio delle imprese valdostane ch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l’ultimo biennio, mostrano un rafforzamento della già buona posizione patrimoniale ed un’inversione di tend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 margini e redditività (che rispettivamente tornano a livelli consistenti e in territorio positivo)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conferma an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ositiva tendenza alla riduzione del rapporto tra sofferenze ed impieghi in Valle d’Aos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he però resta di live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cora superiore allo stesso dato delle aree finanziariamente più solide del Pa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66680" y="4844880"/>
            <a:ext cx="6678720" cy="160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CDF-81A3-489A-A947-D7E1E04FA5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118760" y="1008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l cre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752480" y="1643040"/>
            <a:ext cx="5562720" cy="1500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0720" y="3863880"/>
            <a:ext cx="8357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Valle d’Aost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stano comunque elevati i livelli dei tassi di interes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he, sui prestiti a breve termine, a 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005, sono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quasi due punti percentuali al di sopra del dato medio 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videnziando uno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assi attivi e passivi, ancora maggi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ale fenomeno ricad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in misura rileva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ulle imprese loca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patrimonializzate ma di piccole dimensioni, 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è sola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so meno impattante dagli interventi regionali in conto interess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peraltro sempre più circoscri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ottemperanza ai vincoli europei sugli aiuti alle imprese) e d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uolo svolto dai consorzi di garanzia fid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966-A498-461D-8B34-4639FD3D838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71640" y="2286000"/>
            <a:ext cx="7488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CUNE BREVI CONSIDERAZIONI DI SIN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DCE-2CF7-473E-93FD-819187AD66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501000" y="98100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332000"/>
            <a:ext cx="91105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Dopo alcuni anni di debole congiuntura ed un 2005 di carattere recessivo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 il 2006 anche per la Valle d’Aosta 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egistra un ritorno alla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tendenz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fermata anche dalle stime Unioncamere per il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mangono segni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icoltà nel settore indust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che non supera il 13% di contribuzione al valore aggiunto regionale,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 l’andamento complessivo dell’occupazione si conferma buo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con una sempre maggiore concentrazione di occupati nei servizi e, in termini relativi, n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tasso di disoccup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i mantiene al 3%, con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polazione comunque in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ainata dai flussi provenienti dall’estern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per il 50% di origine nazionale e per l’altro 50 provenienti dall’este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 questo quadro, senza significativi aumenti della produttività del lavoro, sarà difficile poter sostenere la prevista fase di espansione dell’economia senza un ulteriore ricorso a forza lavoro esterna alla Val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manda interna ed esportazion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sono alla base della ripresa registrata nel 2006. Queste ultime registrano un’ulteri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rescita rispetto all’anno precedente benché esse risultino ancora troppo concentrate su poche realtà di impresa e su comparti definiti di tipo “tradizional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onente ester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ha poi un significativ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tributo positiv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ll’interscambio di servizi, quasi interamente da ascrivere al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ante crescita delle presenze turistiche stranie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dai correlati flussi valutari che esse apportano all’economia loca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oltre il 10% del P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 investimenti nel 2006 sono risultati stabil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con una quota sul PIL regionale (tasso di accumulazione) sup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lla media nazionale e a quella  del Nord-Ov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e famiglie risultano ben “patrimonializzate”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on una quota importante di patrimonio (2/3 per le famigli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stituita da beni immobili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li indicatori di benesser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consumi non alimentari, spese per la mobilità, produzione rifiuti, ecc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mangono positivi e confermano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uona qualità della vita dei residen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395-6770-4845-A275-DA821A2DA1F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576960" y="11635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5400" y="1468440"/>
            <a:ext cx="8773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imprese valdosta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lievissimo calo rispetto al 2005 per via dell’incremento delle cancellazioni, sembr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dicare, con  alcuni segni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avvìo di un processo di consolidamen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assante attraver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ncremento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ocietà di capi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aggior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namismo nei settori emergent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terziario avanzato)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nu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blocco legato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urism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bilità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imprese i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iquid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alo dei fallimen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che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mensioni medie restano picco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in particolare nel settore industri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sul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innovativ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relativa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propense ad investire in R&amp;S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est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aperte sui mercati este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est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orte la presenza dell’artigiana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superiore alla media nazionale), con particolare riguardo ai settori manifattu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ero e d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’ sostanzialment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bile la “quota rosa” di imprese al femmini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anche se si registra, tre il 2005 e il 2006, u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attuta d’arresto nella loro crescita numerica e se la presenza nelle società di capitali risulta ancora assai debole (4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ntinua 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end di cresci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le attività di impresa svolte da person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origine extra-comunitari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presenti in tutti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ettori  e che rappresentano il 4,2% del totale delle imprese, con una presenza di particolarmente marcata ne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struzioni,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mercio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e nella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ristor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01A-2B7F-4E25-835E-52EE454916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501000" y="111456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7680" y="16588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040" y="1658880"/>
            <a:ext cx="8778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ul terreno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dell’innovazion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si registran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sitivi interventi ed investimenti pubblic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lla PAL, 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buo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ffusione delle tecnologie IC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ra 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amigli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nche se pare ancora insuffici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infrastrutturazione di alto livell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per territorio e imprese (banda larga, tecnologie wireles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apacità delle imprese di produrre o acquisire innovazion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tecnologiche, di processo e/o prodot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e l’offerta)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personale tecnico-scientific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impiegare in attività “high-skill”  o in R&amp;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(complessivamente circa 200 persone su oltre 55 mila occup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urismo internazion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rappresenta una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ortante risors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 in crescita nell’ultimo quinquennio sia in termin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esenze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superato il milione) sia in termini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flussi finanziar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(300 milioni di euro) a conferma di un soddisfa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ivello di competitività dell’offerta locale, estiva ed inverna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 problemi legati a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redi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ed in particolare all’accesso al credito ed alle sue condizioni, sono da riconnettere prin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ipalmente alle caratteristiche dell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mprese locali, considerate dal sistema troppo piccole e rischios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anche s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diamente, ben patrimonializzate e con percentuali di insolvenza che appaiono dal 2000 in costante diminuzione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FB4-C360-421C-A691-3FB72CDE3AE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01000" y="1044720"/>
            <a:ext cx="20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iderazioni di sinte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720" y="1665360"/>
            <a:ext cx="93006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l quadro complessivo possono emergere, in sintesi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cune “piste di lavoro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ulle quali il sistema local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suo insieme, può concentrars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secuzione dell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mmodernamento strutturale della Valle al servizio dello sviluppo dell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tando su strumentazioni tecnologiche adatte ad un territorio di montagna (GPS, WI-FI, WI-Max, ecc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olidamento, verticale ed orizzontale, delle impre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volto all’ottenimento di quelle economie di scal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 carattere tecnico, organizzativo e finanziario, indispensabili per competere sui mercati extra-regional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viluppo di reti di partnership”aziendali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 tra aree e filiere contigue (Nord-Ovest) e con territori  aff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rco alpino e aree  transfrontalie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  Maggior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stimenti in “know-how” e risorse umane qualific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pprofittando anche delle positive ricad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zialmente derivanti dalla presenza sul territorio di Università e, per le imprese, soprattutto del Politecnic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io e sviluppo di nuov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rumenti di “ingegneria finanziaria”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grado di dare risposte, a condizion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rcato, alle caratteristiche peculiari delle piccole imprese valdostane o delle loro possibili aggregazion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03D-E0D4-4839-8A2A-721B649E53E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3224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600" y="1778040"/>
            <a:ext cx="8660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po un 2005 di segno recessivo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sti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ioncam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l’anno 2006 sono di una netta ripresa (+1,7%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 mettere in relazione sia all’andamento del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manda inter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,8%) sia alla dinamica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,9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estualmente, è tornato a salire il livello dei prezzi, per la prima volta al di sopra dei valori medi nazionali da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à degli Anni Novanta (rispettivamente +2,8, contro 1,9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o trend è stimato per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e aggiunto (+1,7%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isultante da una crescita significativa dei settori d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ruz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2,7%) e de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z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2,1%). Il valore aggiunto dell’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ustria evidenz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vece ancor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tr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seppur inferiore rispetto a quella dell’anno precedente (-0,5% ),  così come quello prodotto dal compa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icolo (-1,2%), comunque di minor peso quantitativ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previsio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Unioncame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 il 200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ermano il trend positivo del P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gionale che farebbe registr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a crescita dell’1,6% in termini reali, lievemente al di sopra di quanto previsto per l’Italia nel suo compless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4738680"/>
          <a:ext cx="7467480" cy="132876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762120"/>
                <a:gridCol w="768240"/>
                <a:gridCol w="747720"/>
                <a:gridCol w="746280"/>
                <a:gridCol w="663480"/>
                <a:gridCol w="747720"/>
                <a:gridCol w="7459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le d’Ao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14880" y="6033960"/>
            <a:ext cx="20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*) Stime. Fonte: Unionca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760" y="4357800"/>
            <a:ext cx="46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amento e previsione del PIL in Valle d’Aosta e in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9840" y="139716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PRODOTTO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F0D-6E64-4334-9CE8-EDD029B5F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856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360" y="4083120"/>
            <a:ext cx="829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L pro-cap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è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rca 31 mila eu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5% in più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valori corr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spetto a due anni pri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so risulta superiore del 28% a quello medio nazionale, dell’8% a quello del Nord-Est e di quasi il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quello del Nord-Ov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l 2005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Valle d’Aosta risul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cond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zione nella graduatoria regionale dietro solo al Trentino-Al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ige, che mostra di un PIL pro-capite di oltre 32 mila euro (36.866 la Provincia Autonoma di Bolzano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52480" y="1339920"/>
            <a:ext cx="602784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803-7272-4D19-AEEB-502256E6A7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0856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1601640"/>
            <a:ext cx="8580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alore aggiunt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valdostano a prezzi corrent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nel 2005 è pari a 3,3 miliardi di eu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per quas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80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è prodo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al settore dei serviz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ttore industrial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nel 2005 contribuisce alla produzione di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co meno del 19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el valore aggiunto regiona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3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circa proveniente dall’industria in senso stretto 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,6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l comparto delle 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ncora in contrazione il peso del settore agricolo che dall’1,4% del 2004 passa all’1,3% del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Rispetto alla composizione nazionale,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’economia valdostana risulta sempre più terziarizzata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con un settore ed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ostanzialmente in linea con il dato nazionale e con un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arto manifatturiero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da alcuni anni attestato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l di so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l 15%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e ad un livello pari a circa la metà di quello di Nord-Ovest e Nord-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3880" y="138420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L VALORE AGGIU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3811680"/>
            <a:ext cx="8302680" cy="26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59A-8758-47D2-A854-6FC4DBC486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9880" y="1652760"/>
            <a:ext cx="8472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finali intern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quadriennio 2000-2004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sco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Valle d’Aost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e a livello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+14,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  nel 2004, a livello regionale, ammontano a quas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,5 miliardi di eu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versa resta invece la loro composizione tra alimentari e non, con una percentuale relativ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umi alimentar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isam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 di sott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media naziona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a del dat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e regioni settentrionali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5800" y="1424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 CON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61840" y="3197160"/>
            <a:ext cx="7507440" cy="26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C4B-DBFA-4C6D-A012-942CFC25B2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4520" y="963720"/>
            <a:ext cx="18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 DATI DI QUA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360" y="1681200"/>
            <a:ext cx="8507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stimenti fissi lord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 sono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stanzialmente allineat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 quelli dell’anno preceden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 miliardo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uro)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n una lieve flessione di quelli in macchinari e attrezzature ed un lieve incremento di quelli in fabbricati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ruz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ò nonostante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 tasso di accumulazio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a Valle d’Aosta (rapporto%  tra investimenti fissi e valore aggiunto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zzi correnti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 mantie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nche nel 2005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n al di sop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 dato medio nazionale e di quelli del Nord Ita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nel Trentino Alto Adige – ed in particolare nella provincia di Bolzano – l’indicatore supera quello valdost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193920"/>
            <a:ext cx="2844720" cy="297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71440" y="3117960"/>
            <a:ext cx="498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l valore medio de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trimonio per famigl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è  per la Valle d’Aosta pari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61  mila eur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contro i 341 m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uro della media  nazionale (+35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o la provincia d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la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videnzia un valore, seppur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co, superiore,  mentre Trento, con 446 mila euro e Bolzan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 435 mila, si collocano rispettivamente al 7° ed al 12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o nella graduatoria delle province itali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sizione del “patrimonio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elle famiglie valdosta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utato da Unioncamere in 26,2 miliardi di euro, è per i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beni real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terreni e fabbricati) e per la restante part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attivit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nziari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di cui 2/3 in valori mobilia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4240" y="1376280"/>
            <a:ext cx="29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VESTIMENTI E PATRIMON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8AC-5B4B-4125-986F-5112BD934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0:13:18Z</dcterms:created>
  <dc:creator>Massimo</dc:creator>
  <dc:description/>
  <dc:language>en-US</dc:language>
  <cp:lastModifiedBy>PMinuzzo</cp:lastModifiedBy>
  <dcterms:modified xsi:type="dcterms:W3CDTF">2007-05-28T11:40:28Z</dcterms:modified>
  <cp:revision>144</cp:revision>
  <dc:subject/>
  <dc:title>GIORNATA DELL’ECONOMIA 20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80608011</vt:r8>
  </property>
  <property fmtid="{D5CDD505-2E9C-101B-9397-08002B2CF9AE}" pid="3" name="_AuthorEmail">
    <vt:lpwstr>ufficiostampa@cogne.com</vt:lpwstr>
  </property>
  <property fmtid="{D5CDD505-2E9C-101B-9397-08002B2CF9AE}" pid="4" name="_AuthorEmailDisplayName">
    <vt:lpwstr>Ufficio Stampa CAS</vt:lpwstr>
  </property>
  <property fmtid="{D5CDD505-2E9C-101B-9397-08002B2CF9AE}" pid="5" name="_EmailSubject">
    <vt:lpwstr>gioranta economia aggiornamento sito</vt:lpwstr>
  </property>
</Properties>
</file>