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280-C24D-4F7B-8D03-CE19A332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1B4-2EB0-4AB1-9A75-EB7F3C8D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5BD-65DA-496A-9368-CF3F9D99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F7F-37CD-49E2-B609-93B22300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4DA-6427-4AD0-AB80-262C40F5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CB7-8590-4A40-B9C2-8A1539C5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8BF-145D-4835-A7FA-868BE042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B29-DA14-4FA3-9EAE-B3BF57BB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9DC-3493-452A-9DAD-6198B098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293-3D93-4427-8145-513B1840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62B-6F5C-4D4C-A2FD-1366A0D6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81B-6BFE-4D97-A8DC-F831FB7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954A-00BB-4ACC-82C7-56DA4EECA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06E-4430-41ED-9EFD-B1E9601B24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8452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0120" y="139212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COMMERCIO INTERN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8920" y="1773360"/>
            <a:ext cx="8500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l 200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l valore del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porta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valdostane è risultato pari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89 mil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euro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19,4% in pi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qu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l’anno precedente. Nello stesso anno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orta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i sono incrementate in misura ancora superio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+39%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fiorando i 400 milioni di euro (287 nel 200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do commerciale sull’ester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6 resta dunque positivo e pari a circ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89 mil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euro,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gra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 apertu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’economia regionale (import+export su PIL) s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crementa passando dal 24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 200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poc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no del 30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po anni di forti oscillazioni “congiunturali”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l 2003 l’incremento annuo delle esportazioni valdostane 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stan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, in due esercizi, addirittura con un tasso a due cif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6019920" cy="213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2884-7B7B-40FC-945A-A33E45C534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08560" y="105264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6960" y="144000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COMMERCIO INTERN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200" y="5935680"/>
            <a:ext cx="82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8% delle importazioni e l’87% delle esporta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stano legate alle attività de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tore metalmeccanic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i esclusivamente a quelle dell’azienda siderurgica Cogne Acciai Speci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" y="1820880"/>
            <a:ext cx="8686800" cy="190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8600" y="3954600"/>
            <a:ext cx="8686800" cy="19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469-7487-4558-AC94-4C5AD99B42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4520" y="105264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560" y="14158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COMMERCIO INTERN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04920" y="2178000"/>
          <a:ext cx="8534160" cy="4067280"/>
        </p:xfrm>
        <a:graphic>
          <a:graphicData uri="http://schemas.openxmlformats.org/drawingml/2006/table">
            <a:tbl>
              <a:tblPr/>
              <a:tblGrid>
                <a:gridCol w="1325520"/>
                <a:gridCol w="668160"/>
                <a:gridCol w="798480"/>
                <a:gridCol w="717840"/>
                <a:gridCol w="715680"/>
                <a:gridCol w="746280"/>
                <a:gridCol w="745920"/>
                <a:gridCol w="744840"/>
                <a:gridCol w="745920"/>
                <a:gridCol w="662040"/>
                <a:gridCol w="663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 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 New 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a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 d’Ao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-Ov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-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-Is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 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 New 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a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 d’Ao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-Ov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-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-Is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219600" y="1757520"/>
            <a:ext cx="534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osizione percentuale di import ed export per area geografica – Anno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6000" y="6353280"/>
            <a:ext cx="300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elaborazione Istituto Tagliacarne su dati I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C52-8A0E-4BD9-94A5-1FA7CCB274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452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1760" y="133524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COMMERCIO INTERN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082960"/>
            <a:ext cx="18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63400" y="1944720"/>
            <a:ext cx="666432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87440" y="5307120"/>
            <a:ext cx="8116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primi cinque Paes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stinatari del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porta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valdostan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orbono il 68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 valore dell’export e sono la Svizzera ed i quattro maggiori Paesi dell’U.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primi cinqu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 cui provengono le importazion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ro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vec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co meno dell’80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’import totale e comprendono due Paesi non facenti parte dell’U.E. (Russia e Svizzer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calo le importazioni dalla Cin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 nel 2006 sono passate dal 7 al 4% del totale,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C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isulta essere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° partner commerci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er le importazioni valdosta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9800" y="1623960"/>
            <a:ext cx="50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mi 30 Paesi di esportazioni ed importazioni valdostane. Anni 2005 e 2006, valori in e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4120" y="5129280"/>
            <a:ext cx="29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Font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: elaborazioni Istituto Tagliacarne su dati I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C51-7B40-417B-A05F-EBE6C23C8D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60840" y="99864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4160" y="137952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COMMERCIO INTERN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3160" y="4311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6560" y="4656240"/>
            <a:ext cx="879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sce anco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6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percentuale di prodotti classificabili come “tradizionali e standard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tra le importazio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 le esportazioni valdosta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stualmente, si riducono le quote d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ni “specializzati e high-tech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ll’import passano dal 13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’11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ll’export scendono dal 15 a meno del 1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confronto con i dati nazionali e dell’Italia Settentrionale evidenzia dunqu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 ruolo più limita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iocato dalle at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rciali sull’estero svolte dalle imprese valdostan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gate a produzioni di beni ad elevato contenuto tecnologic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217600"/>
            <a:ext cx="8072280" cy="203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A28-31DB-4A6D-B514-C306C3A422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4520" y="111276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1880" y="1494000"/>
            <a:ext cx="45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’INTERSCAMBIO  INTERNAZIONALE DI SERV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2255760"/>
          <a:ext cx="4876560" cy="3219480"/>
        </p:xfrm>
        <a:graphic>
          <a:graphicData uri="http://schemas.openxmlformats.org/drawingml/2006/table">
            <a:tbl>
              <a:tblPr/>
              <a:tblGrid>
                <a:gridCol w="1066680"/>
                <a:gridCol w="609480"/>
                <a:gridCol w="685800"/>
                <a:gridCol w="609840"/>
                <a:gridCol w="685800"/>
                <a:gridCol w="609480"/>
                <a:gridCol w="609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cui Viag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.ni di eur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d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b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d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b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le d’Ao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-Ov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0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2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1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8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9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-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2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4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6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5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.6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5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1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cui Viag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.ni di eur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d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b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d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b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le d’Ao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-Ov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8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8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-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6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4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4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.4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.8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.4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87000" y="187488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lussi valutari da e verso l’estero per Servi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2200" y="2335320"/>
            <a:ext cx="361296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 2005 si conferma 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ona perform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la voce “viaggi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 incrementa i flussi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ata del 37% ed il saldo netto del 23%,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tendenza rispetto ai dati nazionali e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d-Italia ed a conferma de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scontro della clientela straniera all’offer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uristica della Valle d’Aos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’interscambio di serviz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 l’este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ppresenta un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ota pari all’11% del P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, se aggiunto al valore dell’interscamb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rciale di beni (import + export)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g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 apertura dell’economia valdostana pas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l 29 a circa il 40 per c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3520" y="559260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Ufficio Italiano Camb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578-C02C-4B9E-9DBF-816FB35D03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79800" y="2365200"/>
            <a:ext cx="655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E SE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D2C-C3CD-4779-A7B0-7F6ABF7144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27320" y="100008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2600" y="1697040"/>
            <a:ext cx="812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fine 2006 in Valle d’Aosta so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gistrate 14.703 impr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cui 12.728 risulta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tive (86,6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petto all’anno preced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quadro è sostanzialmente stab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-83 imprese registrate e –32 attive), an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 nell’anno si evidenzia, all’interno del turn-over, un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duzione del numero di iscri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-2%)  insieme 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 più rileva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mento delle cessa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14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sso di natalità si ridu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unque rispetto all’anno preced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l 6,5 al 6,3%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ello di mortal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a dal 6,1 al 6,9%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enerando un saldo netto negativo (-0,6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47920" y="3819600"/>
          <a:ext cx="6629400" cy="144756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7880"/>
                <a:gridCol w="946080"/>
                <a:gridCol w="946080"/>
                <a:gridCol w="947880"/>
                <a:gridCol w="94752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crit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ss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tal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05800" y="5648400"/>
            <a:ext cx="824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livello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nel 2006 il numero di imprese è cresciuto di 73.333 unità (+1,2%) evidenziando u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sso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al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nuove iscrizioni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 6,9%  ed un tasso di mortal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cessazioni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 5,7%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60800" y="3398760"/>
            <a:ext cx="29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grafia delle imprese in Valle d’Ao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56480" y="5327640"/>
            <a:ext cx="23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Unioncamere – Movimpres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0C2-2A51-4725-98D3-D3EADC6451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75040" y="95868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800" y="1503360"/>
            <a:ext cx="858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l 1998, il numero di impr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è rimast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stanzialmente stab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facendo registrare un incremento dello 0,8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aminando i macro-settori economici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’andamento appare assai differenzia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si riducono di circa 1.000 unità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se agrico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-28%), mentre si incrementano il comparto del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stru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600 imprese pari a +27%) e qu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z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+500 imprese pari a +6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 compart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trattivo-manifatturier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nel periodo, le imprese si riducono del 3% circa, passando da 1230 a 118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3168720"/>
          <a:ext cx="2819520" cy="1449360"/>
        </p:xfrm>
        <a:graphic>
          <a:graphicData uri="http://schemas.openxmlformats.org/drawingml/2006/table">
            <a:tbl>
              <a:tblPr/>
              <a:tblGrid>
                <a:gridCol w="762120"/>
                <a:gridCol w="528480"/>
                <a:gridCol w="538200"/>
                <a:gridCol w="533520"/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icoltu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8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st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ruzio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z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8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6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5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7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7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724280" y="2940120"/>
          <a:ext cx="3200400" cy="1816200"/>
        </p:xfrm>
        <a:graphic>
          <a:graphicData uri="http://schemas.openxmlformats.org/drawingml/2006/table">
            <a:tbl>
              <a:tblPr/>
              <a:tblGrid>
                <a:gridCol w="1143000"/>
                <a:gridCol w="457200"/>
                <a:gridCol w="533520"/>
                <a:gridCol w="533520"/>
                <a:gridCol w="5331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3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mobilia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7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m. Finanziaria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berghi e Ristoraz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. Prof/impre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. al dettagl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ccanici/riparaz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39280" y="2787480"/>
            <a:ext cx="251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Imprese per macro-settori in Valle d’Ao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5360" y="2695680"/>
            <a:ext cx="321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Dinamica di alcuni comparti dei servizi in Valle d’Ao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5000" y="5149800"/>
            <a:ext cx="8378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 i servizi, cres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periodo il numero di imprese operanti nei settori de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rziario avanza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de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zi a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informatica, immobiliare, intermediazione finanziaria e consulenza)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contrazione paion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rti più tradizional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egati al commercio ed ai servizi al dettagl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alberghie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d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stor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in particolare queste ultime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menta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period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 13,4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5880" y="4689360"/>
            <a:ext cx="203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Times New Roman"/>
              </a:rPr>
              <a:t>Font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: Unincamere – Movimprese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6520" y="4768920"/>
            <a:ext cx="203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Times New Roman"/>
              </a:rPr>
              <a:t>Font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: Unincamere – Movimprese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840-F930-4029-8D38-26F9907393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51360" y="99216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040" y="1601640"/>
            <a:ext cx="8731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Nel 2006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le imprese registrate com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ocietà di capit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ono 1.888 (+3% rispetto al 2005 e +40%  rispetto al 1998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appresentand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quasi il 13% del totale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il 19% a livello naziona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 cal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vec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e società di pers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tra il 2005 e il 2006 (-0,5%), mentre, rispetto al 1998, esse sono cresciute dell’8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stante la flessi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el numer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 ditte individual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8.137 contro le 8.951 del 1998) che peraltro continuano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appresentar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l 55% del totale delle imprese valdost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Tra il 1998 e il 2006, crescono infine di oltre il 20% le imprese con “altre” forme giuridiche trainate dallo 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el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operazi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in particolare sociale, e dal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mprese no-profit.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971800" y="3811680"/>
          <a:ext cx="2971800" cy="196056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160"/>
                <a:gridCol w="533520"/>
                <a:gridCol w="533520"/>
              </a:tblGrid>
              <a:tr h="3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età di Capit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età di Pers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tte individua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e 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2899440" y="3430440"/>
            <a:ext cx="26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Imprese per forma giuridica in Valle d’Ao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4040" y="5792760"/>
            <a:ext cx="203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Times New Roman"/>
              </a:rPr>
              <a:t>Font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: Unincamere – Movimprese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7EF-15AB-46C1-887C-AAA4098C7E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5960" y="2657520"/>
            <a:ext cx="4388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E P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DC6-AAC9-45E3-88C1-163D2AD989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27320" y="101268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6120" y="1393920"/>
            <a:ext cx="87606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artigia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gistrate  nel 2006 sono 4.126 (4.133 nel 2005) e quelle attive 4.118 (4.122 nel 200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e ultime rappresenta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32% delle imprese attive valdosta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quas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40% delle imprese extra-agrico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la reg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aggregand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 settori, le imprese artigia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Valle d’Aosta sono circa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5% del comparto industr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sen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etto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’82% delle costru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16% delle imprese dei servizi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 i dati medi nazionali risult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pettivamente pari al 67, 75 e 17 per c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i indicatori regionali, rispetto al 2000, so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crescita nei comparti industria ed edilizia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 appaiono i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e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lo nel terziari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femminil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6 sono in lieve calo rispetto al 2005 (3.761 contro 3.782 quelle registrate e 3.353 con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361 quelle attive) 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ppresentano il 26%  delle imprese valdosta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 forma giuridica, ess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no in larga par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71% delle attive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tte individual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29% del tota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lo il 4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esse è strutturata  nella forma d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cietà di capit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la regione sono classifica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nditrici femminili 10.430 donne, il 45% del totale delle donne occup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 esse, 3.869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il 37%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rivestono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uolo di amministrato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3.336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il 32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) so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ci personal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 2.396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il 2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ulta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tolari dell’impr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ù de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% di es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6.140 donne) hanno il ruolo d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ci o amministrato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società di pers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setto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 maggior presenza di donne imprenditrici risultano essere quell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berghiero e della ristor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94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i al 18,6%),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ercio al dettagli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735 pari al 16,6%) e quello dell’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icoltur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956 pari al 9% del to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le donne imprenditrici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69D-BD1A-45BD-A2F9-1629D2FDD8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27320" y="97164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352520"/>
            <a:ext cx="8686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rapida e costante crescita il numero di imprese co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nditori extra-comunita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fine 2006 esse so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2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8,2% rispetto all’anno precedente) e rappresenta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4,2% del tot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3,9% nel 200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si 2/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gli imprenditori extra-comunitar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 un’età compresa tra i 30 e i 50 an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risulta titolare/socio dell’impr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settore preponderan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è quello del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stru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con 145 imprese (il 23% del totale). Segue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erci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7%)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ristor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2%), anche se 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senz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renditorial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ulta comunqu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ffusa in tutti i comparti di attivit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35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gli imprenditori è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 provenienza europ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di cui l’11% ripartito tra rumeni ed albanesi),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l 30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i casi ess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è nord-african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Circ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20% ha origini latino-american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52480" y="3867120"/>
          <a:ext cx="5867640" cy="2270160"/>
        </p:xfrm>
        <a:graphic>
          <a:graphicData uri="http://schemas.openxmlformats.org/drawingml/2006/table">
            <a:tbl>
              <a:tblPr/>
              <a:tblGrid>
                <a:gridCol w="1173240"/>
                <a:gridCol w="1173600"/>
                <a:gridCol w="1173600"/>
                <a:gridCol w="1173240"/>
                <a:gridCol w="11739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/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 Impre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à imprendit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30 an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49 an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tre 50 an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o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ministrator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tori di attivit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ruzio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tor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venienza G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a non 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-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Sud Am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681920" y="3562200"/>
            <a:ext cx="32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Imprese/imprenditori extra-comunitari in Valle d’Ao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61400" y="6137280"/>
            <a:ext cx="22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Font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: Unincamere – Movimpres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DA1-8756-453D-985A-43DC56CBF2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975040" y="98748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488960"/>
            <a:ext cx="882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le imprese annualmente iscritte, tra il 2002 e il 2004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è in calo la quota di “nuove imprese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ispetto a quel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iva a “trasformazioni, scorpori, separazione o filiazione di impresa”: dal 52% del 2002 (449 nuove imprese) al 49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 2003 (401) al 47% del 2004 (42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ndenzialmente in cal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period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quota di nuove imprese “femminili”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l 29,7% del 2002 al 23,9 del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ortan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nel 2002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percentuale di nuove impr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vviate d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nditori di età inferiore ai 25 an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8,8%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ota che si riduce nei due anni successivi assestandosi intorno al 12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3578400"/>
          <a:ext cx="6477120" cy="2184120"/>
        </p:xfrm>
        <a:graphic>
          <a:graphicData uri="http://schemas.openxmlformats.org/drawingml/2006/table">
            <a:tbl>
              <a:tblPr/>
              <a:tblGrid>
                <a:gridCol w="2209680"/>
                <a:gridCol w="1067040"/>
                <a:gridCol w="1143000"/>
                <a:gridCol w="990360"/>
                <a:gridCol w="1067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/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ove iscri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cui “nuove imprese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rendit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cui don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25 a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-49 a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6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anni e ol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071360" y="3121200"/>
            <a:ext cx="397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uove imprese e imprenditori – Valle d’Aosta  2002 -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50840" y="5848200"/>
            <a:ext cx="22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nte: Unioncamere – Movimpres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FBA-BDB1-4129-AF29-3ABB24A4DE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03640" y="93996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1397160"/>
            <a:ext cx="4705200" cy="177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2200" y="5294160"/>
            <a:ext cx="876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zionario il livello di imprese messe in liquid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Valle d’Aosta nel periodo 2000-2006 con una % sul to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co al di sopra del dato nazionale (1,5 contro 1,3 per cen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significativo calo invece i falliment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0 nel 2006), con un’incidenza (7 ogni 10.000 imprese) che è la metà del d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o nazionale (14 ogni 10.000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133720" y="3301920"/>
            <a:ext cx="472428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EE1-786F-447B-B185-9575D3DF40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27320" y="97776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33720" y="1434960"/>
            <a:ext cx="4592520" cy="1108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02320" y="2806560"/>
            <a:ext cx="8708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 dati relativi al mercato del lavoro restano positiv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per la Valle d’Aosta. Nel II trimestre 2006, il tasso di disoccu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azione si mantiene al livello del 3% ed il tasso di occupazione (67%) è tra i più elevati del Pae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ei 53.133 occupati rilevati dall’ISTAT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l 28,2% sono lavoratori non dipendenti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26% in Itali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al punto di vista settori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i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9,9% è occupato nei serviz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di cui l’11,6% nel commercio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l 24,5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nell’ind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di cui il 13% nel settore edile), mentre il restant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,6% opera in agricolt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6680" y="4788000"/>
          <a:ext cx="7112160" cy="1193760"/>
        </p:xfrm>
        <a:graphic>
          <a:graphicData uri="http://schemas.openxmlformats.org/drawingml/2006/table">
            <a:tbl>
              <a:tblPr/>
              <a:tblGrid>
                <a:gridCol w="914400"/>
                <a:gridCol w="1117800"/>
                <a:gridCol w="1015920"/>
                <a:gridCol w="1015920"/>
                <a:gridCol w="1015920"/>
                <a:gridCol w="1016280"/>
                <a:gridCol w="10159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ICOL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cui costruzi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cui commer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 a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6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3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971280" y="449424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Times New Roman"/>
              </a:rPr>
              <a:t>Occupati in VdA nel II semestre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5240" y="6080040"/>
            <a:ext cx="84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ont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 IST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7760" y="2577960"/>
            <a:ext cx="85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IST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C82-C150-4BF3-A169-F547629932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51360" y="96192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38080" y="1495440"/>
            <a:ext cx="7423200" cy="1533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38080" y="4467240"/>
            <a:ext cx="7543800" cy="1878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8080" y="3095640"/>
            <a:ext cx="8112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numero medio di addett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er unità locale nel 2004 è lievem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 di sotto del dato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3,3 contro 3,5) e si discosta maggiormente dal dato medio delle regioni settentrionali (3,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i diversi settori, particolarmente rilevante è l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ostamento in negativo nell’industr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nel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tività finanziarie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i servizi pubblic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 dimensioni medie delle UL valdostane risultano tra le più elevate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7360" y="1227240"/>
            <a:ext cx="27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etti per dimensioni di Unità Loc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8600" y="4162320"/>
            <a:ext cx="323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etti per Unità Locali per settore econo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2320" y="6369120"/>
            <a:ext cx="2872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ISTAT, Registro Statistico delle Unità Locali 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691-33D8-43CE-8A9B-CBDAE726FF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355920" y="95400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7400" y="1411200"/>
            <a:ext cx="5234040" cy="2586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26680" y="4230720"/>
            <a:ext cx="8635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 Valle d’Aosta nel 2004 risultano ancor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iù forti i fenomeni di attrazione rispetto a quelli di delocalizzazi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4300 risultano gli occupati in UL di imprese con sede fuori dal territorio, mentre il fenomeno inverso interessa ci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000 occupati in meno, con un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aldo percentuale del 3,6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no inverso nelle altre aree prese in esam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con la sola eccezione del Nord-Est che, nel suo insieme, evidenzia 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aldo ancora positivo nel 2004, seppur risultante da percentuali inferiori a quelle valdosta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e altre aree del Nord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incluse Trento e Bolzano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mbrano aver già avvia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 modo più deciso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rocessi pi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arcati di delocalizzazione dei loro processi produttiv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144-A64F-4A7E-842B-90231E0353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16000" y="2765520"/>
            <a:ext cx="71280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E TE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CUNI “FOCUS” SPECIF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594-FA78-4BEF-921C-1207641CBA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422520" y="1131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lità della vita e amb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436760"/>
            <a:ext cx="80773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classifica dell’indagine del Sole 24 Ore su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lità della vita posizion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l’anno 2006 Aosta (l’intera Valle d’Aosta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 15° pos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ra i 103 territori provinciali presi in esame, preceduta da tre Province toscane (Siena, Firenze e Grosseto), due del Friuli Venezia-Giulia (Trieste e Udine), dalle due Province autonome di Trento e Bolzano, da 5 Province dell’Emilia-Romagna (Bologna, Ravenna, Rimini, Forlì e Reggio Emilia),  da Milano e dalla Provincia veneta di Bellu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’indice medio della Val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isult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eriore alla media nazionale di circa l’11 per cento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 discos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 quello di Sien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al primo posto nella graduatoria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l’8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i indici relativi a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nore di vi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osizionano la Valle all’8° posto grazie a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e aggiunto per abitan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27,6 mila euro contro una media nazionale di 21,6 nel 2005) ed a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umi delle famigli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al primo posto con un indice sintetico, superiore del 41% a quello medio naziona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consumi inter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e famigli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 sono mantenuti elevat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sono cresciuti allo stesso tasso medio nazionale) ed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ddito lordo disponib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mplessivo delle famiglie è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sciuto del 4,8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3,9 per l’Italia e 4,4 nel Nord-Oves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14400" y="4560840"/>
            <a:ext cx="7645320" cy="203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146-04E1-4834-AEBF-2A3874C91E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70240" y="110340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lità della vita e amb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00200" y="3313080"/>
            <a:ext cx="6095880" cy="1609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16520" y="5153040"/>
            <a:ext cx="873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consumi energetic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ono aumentati in Valle d’Aosta tra il 2004 e il 2005 dell’1,2% (+3,2 in Italia)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consu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-capite resta eleva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44% rispetto al dato nazionale), anche se parte dei consumi interni è da mettere in rel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e presenze turisti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composizione dei consumi di energia nella regione resta, come a Bolzano, relativam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ù orientata s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rziario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 la quota de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umi domestic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isult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centualmente inferiore a quella media nazion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914400" y="1407960"/>
            <a:ext cx="7477200" cy="176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E9F-FF8F-4C72-AB83-450F26E161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6084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760" y="1690560"/>
            <a:ext cx="8451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l 200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 per la prima volta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popol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a Valle d’Aosta ha superat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125 mila un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lessivamente, rispetto all’anno precedente, la popolazione resid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è cresciuta dell’ 8,6 per mil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rag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 u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do naturale negativ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lo 0,3 per mil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di u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do migratorio positivo dell’8,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er mil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saldo migratorio è a sua volta la risultante di migrazioni “interne” pari al +4,8 per mille e, per la restante part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 migrazioni dall’este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2006 conferma comunque i trend demografici in corso in Valle d’Aosta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polazione residen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sce pi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locemente della media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rainata dalla componente migratoria che, nel suo complesso, risulta secon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o al dato dell’Emilia Romagna (+10,8 per mille) e pari a quello della  provincia di Bolz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3880" y="4205160"/>
          <a:ext cx="6210360" cy="143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4205160"/>
                    <a:ext cx="621036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66840" y="137484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A POPOL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63D-A124-427C-AB94-2BA7DC0F11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70240" y="105732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lità della vita e amb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38080" y="1438200"/>
            <a:ext cx="7307280" cy="2843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22520" y="4649760"/>
            <a:ext cx="8471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uzione di rifiuti urbani è elev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anche il confronto con aree a forte vocazione turistica come Bolz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 evidenzia la port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quota di “differenziata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è peraltr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eriore alla media nazionale ed in cresci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28% contro il 24%), an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 essa nell’anno 2005 è ancora assai inferiore a quella che si registra a Bolzano e a Trento (44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 l’anno 2006, le previsioni sono di un’ulteriore importante crescita di tale quo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7C2-5B59-4AD0-AAC0-091CB688E6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46200" y="104616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lità della vita e amb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360" y="4017960"/>
            <a:ext cx="87685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parco veicol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Valle d’Aost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è rilevan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d il numero medio di vetture per abitante è quasi doppio rispetto 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o nazion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che 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umi di carburante pro-cap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ono elevati, anche s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porzionalmente inferio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l numero di me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matricolati. Infatti, rispetto ad essi, i consumi di carburante si allineano al dato italiano e sono addirittura inferi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lli di Nord-Ovest e Nord-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traffico merci su strad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benché in presenza di due trafori alpini di grande rilievo per la circolazione internazional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stra un indi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er la Valle d’Aosta (espresso in tonnellate di merci in ingresso e uscita per abitante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 po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eriore al dato medio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26,3 contro 24,9)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 molto al di sotto sia di quello piemontese (34,1) 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 quello del Trentino-Alto Adig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i doppio (48,3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09480" y="1503360"/>
            <a:ext cx="7696440" cy="221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850-576C-4A54-9124-5C4AF7E12B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348360" y="1031760"/>
            <a:ext cx="21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novazione e tecnologi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336680"/>
            <a:ext cx="8643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a bilancia dei pagamenti tecnologic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videnzia per la Valle d’Aosta nel 2005 un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sizione netta positiv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+375 mila euro), ma a fronte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volumi di scambi assai modest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 incassi e pagamenti rispettivamente per 1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0,6 milioni di eur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80%  di tale interscambi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è relativo 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tudi tecnici ed engineering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mentre del tutto irrisori sono i valori rela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llo scambio e/o allo sfruttamento di brevetti o invenz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 dati risultan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 calo rispetto all’anno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indice sintetico di “capacità innovativa”,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laborato dall’ISTAT e dato dalla spesa sostenuta per attività di R&amp;S della PA, delle Università e delle imprese pubbliche e private in percentuale sul PIL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i colloca molto al di sot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ella media nazionale (0,3 contro 1,1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0" y="4156200"/>
          <a:ext cx="4572000" cy="1927080"/>
        </p:xfrm>
        <a:graphic>
          <a:graphicData uri="http://schemas.openxmlformats.org/drawingml/2006/table">
            <a:tbl>
              <a:tblPr/>
              <a:tblGrid>
                <a:gridCol w="1295280"/>
                <a:gridCol w="685800"/>
                <a:gridCol w="685800"/>
                <a:gridCol w="685800"/>
                <a:gridCol w="609480"/>
                <a:gridCol w="609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 d’Ao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mo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tino A-Adi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-Ov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-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2287440" y="613728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nte: I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70160" y="45482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6240" y="3699000"/>
            <a:ext cx="269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dice regionale di capacità innov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627-1F38-49C9-80C0-638824F3A8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501000" y="91440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novazione e tec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05120" y="1371600"/>
            <a:ext cx="541008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58F-BC21-4654-BDD9-FDB05485B5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501000" y="91440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novazione e tec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26040" y="1371600"/>
            <a:ext cx="4352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l personale addet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alle attività in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&amp;S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è, in Va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’Aosta, numericamente ridotto e risulta di ent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feriore alle 200 unità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irca 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à è impiegato dalle impre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il 23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è in istituzioni private non-prof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 volumi di spes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econdo l’ISTAT sono di poco su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eriori a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 milioni di eur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di cui quas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/3 sostenu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alle impre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a cui sono peraltro indirizzati specific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ostegni finanziar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a parte della Regi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attività brevettuale è limitat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ia in valore assolut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a in rapporto alle dimensioni relative della regio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nche se il trend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nell’ultimo biennio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isulta in cresc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5506920" cy="122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046-97D5-4B76-AC2A-BE3C732EEC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576960" y="92376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novazione e tec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2800" y="1533600"/>
            <a:ext cx="86799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ntrastanti i dati ISTA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relativi alla diffusione e all’utilizzo del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ecnologie informatich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 Valle d’Aos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mportanti sono gl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forzi effettuati dalla Amministrazione region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 piani e programmi di informatizzazio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 particolare per l’ammodernamento della pubblica amministrazione loc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 effetti i dati relativi alla diffusion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ell’informatizzazione nei comuni valdostani colloca la Valle al livello pi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eleva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ul piano nazionale (cfr recente indagine ISTAT sull’ ICT nella PA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gnificativo anche il dato relativo a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rado di utilizzo di internet nelle impre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con più di 10 addetti) che evidenz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una percentuale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ddetti connessi ad internet pari al 39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contro un dato medio nazionale del 28 e un indice per 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ord-Ovest del 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iù critic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vece il dato relativo al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ffusione della banda larga tra le impre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con più di 10 addetti). In ques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mbito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l 62% della Valle d’Aosta risulta inferior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ia al dato medio nazionale (70%), sia a quello di Nord-Ov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74%), Nord-Est (70%) e Trentino-Alto Adige (75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nch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a diffusione di siti web delle imprese evidenzia un certo ritard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: in Valle d’Aosta la percentuale di impr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he ne dispon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49%)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è inferiore sia alla media nazionale (57%) sia a quelle di Nord-Ovest (62%), Nord-Est (58%)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Trentino Alto-Adige (67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ra le famigli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la diffusione di internet è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ostanzialmente in linea con il dato medio nazion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con il 34% 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ichiara di possedere una connessi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l dato è solo di poco inferiore a quello medio delle regioni del Nord (38%) e a quello di Trento e Bolzano, p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entrambi pari al 39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7DF-1BB4-4DBC-B6D7-24549748EA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425400" y="95868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urismo e flussi turist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4480" y="1568520"/>
            <a:ext cx="863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e richiamato nei dati di contesto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flussi monetari provenienti dall’estero sono in cresci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ra il 2004 e il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06 milioni di euro contro 224 con un incremento del 37%) e per la quasi totalità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no relativi al turism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stima dell’Ufficio Italiano Cambi su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mero di viaggiatori stranie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 destinazione Valle d’Aosta è cresc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, dopo una flessione fatta registrare nel 2004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rna sopra il milione di un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5, incrementandosi nel 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l’8,3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800600" y="2940120"/>
            <a:ext cx="3695760" cy="1906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33520" y="2940120"/>
            <a:ext cx="3925800" cy="1944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4400" y="5226120"/>
            <a:ext cx="8668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 il 2005 e il 2006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’U.I.C. registra però un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azione della spes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i viaggiatori stranieri in Valle d’Aosta (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lioni di euro), che evidenzia un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ata riduzione della spesa media pro-cap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da circa 290 a 222 mila eur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i a u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23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’ da supporre che, ad un numero crescente di viaggiatori stranieri in Valle, si accompagni tra il 2005 e il 2006 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cremento più forte di turisti di passaggio rispetto a quelli soggiornanti una o più not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08A-F220-45F4-BFC6-B62DB06869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349080" y="91440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urismo e flussi turist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295280"/>
            <a:ext cx="7999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effetti, i dati su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rrivi e presenze turistich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forniti dall’Assessorato al Turismo della Regione Valle d’Aosta mostrano un quadro dettagliato e articol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rrivi complessiv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nelle strutture ricettiv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el 2006 crescono di circa il 2% rispetto all’anno preceden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 torn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ui livelli massimi registrati nell’anno 2003 (circa 870 mil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n omogene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risultan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 trend estivo ed invernal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 il primo è in crescita (+3,8%), mentre il secondo evidenzia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lessione dell’1,9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e presenze totali,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seppur in crescita rispetto al 2005 (+1,9%),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ono ancora di oltre il 6% al di sott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i quelle regi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el 2003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quasi 3,5 milioni) a conferma di una durata media delle presenze in calo (da 4 a 3,7 notti). Anche nelle presen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 2005 e 2006 si registra u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ndamento in crescita nell’estiv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+5% dopo due anni di forte calo) ed i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flessione nell’invernal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-2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ra il 2002 e il 2006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esenze estiv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mostrano una lieve flessione di quelle italiane (-2,5%, assestate introno a 1,2 milion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d un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rescita di circa il 17% di quelle stranier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da 268 a 314 mil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lo stesso periodo,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esenze invernal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videnziano invec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un cal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i circa il 15%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i quelle nazional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da 950 a ci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800 mila) ed un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mportante crescita di quelle stranier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da 570 a oltre 700 mila presenze) che, nell’inverno 2006, si avvici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ano quantitativamente a quelle itali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45% di esse nel 2006 proviene dal Regno Unito e risultano in crescita i clienti provenienti da Francia, Belgio, Russi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agna, Polonia e Scandinav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le due stagioni “forti” (estate e inverno) negli ultimi 5 anni si registra u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alo delle presenze italia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ll’8% (da 2,2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 m.ni) accompagnato da una robust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rescita della componente ester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da 840 mila a oltre 1 milione con un +22%) che 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006 rappresent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/3 della clientela turistica della Val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1F7-A7B8-4C59-94E3-6C334DBED0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501360" y="91440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urismo e flussi turist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5829120" cy="407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481-380D-4083-9A19-05FF9B78E0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501360" y="91440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urismo e flussi turist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0000" y="1523880"/>
            <a:ext cx="8465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a capacità ricettiv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 hotel e RTA è nel 2006 di circ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3.600 posti let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+3% rispetto al 2000 e –200 p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etto rispetto al 2005) con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assi di occupazione mensil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elle strutture alberghiere che nello stesso anno super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l 50% 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 esta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nei  mesi di luglio e agosto negli ambiti delle AIAT di Cogne, Monte Bianco, Aosta e Monte R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nelle altre nel solo mese di agosto) 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 invern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 Valtournenche (da gennaio ad aprile),  La Thuile-P.S.Bernard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onte Bianco (da gennaio a marzo) e Aosta e Monte Rosa (solo febbraio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6941880" cy="2452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61000" y="5497560"/>
            <a:ext cx="86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’offerta di posti letto “commerciali”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cludendo gli extra-alberghieri e le case-appartamenti in affitto, non arriva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6 mila unità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tro i circ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 mila posti letto totali di Trento, Bolzano e dell’Alta Savo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AA5-206B-4766-9656-FE52A9B003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08560" y="91440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1347840"/>
            <a:ext cx="7391520" cy="464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48440" y="620856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C75-BFD5-4BFF-8264-7CC62065C8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966120" y="11286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l cre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920" y="1851120"/>
            <a:ext cx="811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 un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e di sportelli banca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ttivi di poco inferiore alle 100 unità, la Valle d’Aosta registra una pres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ncaria sul proprio territorio diffusa e capillare, quantitativam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spondente alle esigenze del territo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2602080"/>
            <a:ext cx="8610480" cy="2516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62440" y="5432400"/>
            <a:ext cx="88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mero di sportelli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 cui nel 2005 si aggiunge una rete 114 ATM, è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stanzialmente stabile dal 2002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,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’eccezione di Bolzano, nel resto del Paese, con un minor rapporto tra abitanti e sportelli, esso è in progressivo aum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1EA-AB37-42E6-8EC4-1FE4051F63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90160" y="105084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l cre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8600" y="1457280"/>
            <a:ext cx="8686800" cy="2209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28600" y="3819600"/>
            <a:ext cx="861048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4B99-30B1-45D8-A5DB-FB5D0F5FE34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042440" y="108576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l cre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9360" y="1415880"/>
            <a:ext cx="88599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 periodo 1999-2005,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’ammontare dei depositi in Valle d’Aosta è cresciuto ad un tasso mino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qu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o nazionale (24% contro il 33) ed il su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 medio pro-cap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è divenut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erio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 quello medio delle 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tentrionali del Pae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che nell’ultimo anno, tale trend trova conferma (5% Valle d’Aosta, 7% Italia, 6,5% N-Ovest, 8% N-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contrario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li impieghi nei sei anni si sono incrementat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 65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52% a livello nazionale) ed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ro valore pr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p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entam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 avvicina al valore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ur restando inferiore del 30-40% al dato medio dell’Italia del No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le trend, particolarmente sostenuto tra il 1999 e il 2002, sembra rallentare nel periodo successivo e, tra il 2004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2005, 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scita degli impieghi segna un modesto +3,6%, contro il 7,6% del totale nazion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linea con i dati forniti dal Centro Studi Unioncamere sugli indicatori di bilancio delle imprese valdostane ch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l’ultimo biennio, mostrano un rafforzamento della già buona posizione patrimoniale ed un’inversione di tend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 margini e redditività (che rispettivamente tornano a livelli consistenti e in territorio positivo)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 conferma an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positiva tendenza alla riduzione del rapporto tra sofferenze ed impieghi in Valle d’Aos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che però resta di liv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cora superiore allo stesso dato delle aree finanziariamente più solide del Pae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066680" y="4844880"/>
            <a:ext cx="6678720" cy="160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FD8-12CC-4DED-B6EF-E17BC9F4648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118760" y="1008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l cre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52480" y="1643040"/>
            <a:ext cx="5562720" cy="1500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20720" y="3863880"/>
            <a:ext cx="8357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 Valle d’Aost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estano comunque elevati i livelli dei tassi di interes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che, sui prestiti a breve termine, a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2005, sono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quasi due punti percentuali al di sopra del dato medio nazion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videnziando uno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spread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t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tassi attivi e passivi, ancora maggi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ale fenomeno ricad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 misura rilevant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ulle imprese local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patrimonializzate ma di piccole dimensioni, 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è solament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eso meno impattante dagli interventi regionali in conto interess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peraltro sempre più circoscri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 ottemperanza ai vincoli europei sugli aiuti alle imprese) e da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olo svolto dai consorzi di garanzia fid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B0D-C303-4894-82E7-63D1449AC4D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71640" y="2286000"/>
            <a:ext cx="7488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CUNE BREVI CONSIDERAZIONI DI SINTE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F47-8C97-43F3-9A40-69F882CAEA4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501000" y="98100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iderazioni di sint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332000"/>
            <a:ext cx="91105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opo alcuni anni di debole congiuntura ed un 2005 di carattere recessivo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n il 2006 anche per la Valle d’Aosta 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egistra un ritorno alla crescit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tendenz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nfermata anche dalle stime Unioncamere per il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ermangono segni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fficoltà nel settore industri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che non supera il 13% di contribuzione al valore aggiunto regionale, 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a l’andamento complessivo dell’occupazione si conferma buon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 con una sempre maggiore concentrazione di occupati nei servizi e, in termini relativi, nelle costruz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l tasso di disoccupazi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i mantiene al 3%, con un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polazione comunque in crescit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rainata dai flussi provenienti dall’estern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 per il 50% di origine nazionale e per l’altro 50 provenienti dall’este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 questo quadro, senza significativi aumenti della produttività del lavoro, sarà difficile poter sostenere la prevista fase di espansione dell’economia senza un ulteriore ricorso a forza lavoro esterna alla Val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omanda interna ed esportazion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ono alla base della ripresa registrata nel 2006. Queste ultime registrano un’ulteri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rescita rispetto all’anno precedente benché esse risultino ancora troppo concentrate su poche realtà di impresa e su comparti definiti di tipo “tradizionale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ponente ester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ha poi un significativ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ntributo positiv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all’interscambio di servizi, quasi interamente da ascrivere al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stante crescita delle presenze turistiche stranier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dai correlati flussi valutari che esse apportano all’economia loca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oltre il 10% del PI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 investimenti nel 2006 sono risultati stabil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con una quota sul PIL regionale (tasso di accumulazione) superi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lla media nazionale e a quella  del Nord-Ov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mprese e famiglie risultano ben “patrimonializzate”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con una quota importante di patrimonio (2/3 per le famigli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stituita da beni immobili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 indicatori di benesser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consumi non alimentari, spese per la mobilità, produzione rifiuti, ecc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ermangono positivi e confermano un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buona qualità della vita dei residen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90A-2DC1-4CD8-8E52-65978B1747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576960" y="116352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iderazioni di sint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5400" y="1468440"/>
            <a:ext cx="8773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e imprese valdosta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in lievissimo calo rispetto al 2005 per via dell’incremento delle cancellazioni, sembr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dicare, con  alcuni segni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avvìo di un processo di consolidamen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passante attravers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cremento del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ocietà di capit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aggior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namismo nei settori emergent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terziario avanzato) 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enut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el blocco legato a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urism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tabilità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elle imprese in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iquidazi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alo dei falliment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che 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mensioni medie restano picco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in particolare nel settore industria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isultan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co innovativ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relativament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co propense ad investire in R&amp;S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estan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co aperte sui mercati ester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est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orte la presenza dell’artigiana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superiore alla media nazionale), con particolare riguardo ai settori manifattu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iero e delle costruz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E’ sostanzialment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tabile la “quota rosa” di imprese al femmini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anche se si registra, tre il 2005 e il 2006,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battuta d’arresto nella loro crescita numerica e se la presenza nelle società di capitali risulta ancora assai debole (4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ntinua i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rend di crescit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elle attività di impresa svolte da person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 origine extra-comunitari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presenti in tutti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ettori  e che rappresentano il 4,2% del totale delle imprese, con una presenza di particolarmente marcata nel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struzioni,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e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ercio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e nella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ristorazi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F11-CD6F-4E4B-8A0A-2DF5304CB02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501000" y="111456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iderazioni di sint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7680" y="16588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5040" y="1658880"/>
            <a:ext cx="87789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ul terreno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dell’innovazi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si registran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sitivi interventi ed investimenti pubblic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nella PAL,  un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buo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ffusione delle tecnologie IC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tra 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mpre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amigli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anche se pare ancora insufficie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infrastrutturazione di alto livell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per territorio e imprese (banda larga, tecnologie wireles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apacità delle imprese di produrre o acquisire innovazion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tecnologiche, di processo e/o prodot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omand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e l’offerta)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 personale tecnico-scientific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a impiegare in attività “high-skill”  o in R&amp;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complessivamente circa 200 persone su oltre 55 mila occupa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urismo internazion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rappresenta un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mportante risors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 in crescita nell’ultimo quinquennio sia in termini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resenze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superato il milione) sia in termini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lussi finanziar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300 milioni di euro) a conferma di un soddisfac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ivello di competitività dell’offerta locale, estiva ed invern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 problemi legati a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redi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ed in particolare all’accesso al credito ed alle sue condizioni, sono da riconnettere pri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ipalmente alle caratteristiche del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mprese locali, considerate dal sistema troppo piccole e rischio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anche s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diamente, ben patrimonializzate e con percentuali di insolvenza che appaiono dal 2000 in costante diminuzione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9BF-79F8-4E30-B3FE-F170D1D8F9E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501000" y="104472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iderazioni di sint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720" y="1665360"/>
            <a:ext cx="93006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l quadro complessivo possono emergere, in sintesi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cune “piste di lavoro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ulle quali il sistema loca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 suo insieme, può concentrars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secuzione dell’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modernamento strutturale della Valle al servizio dello sviluppo delle impr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ntando su strumentazioni tecnologiche adatte ad un territorio di montagna (GPS, WI-FI, WI-Max, ecc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olidamento, verticale ed orizzontale, delle impr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volto all’ottenimento di quelle economie di scal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 carattere tecnico, organizzativo e finanziario, indispensabili per competere sui mercati extra-regional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viluppo di reti di partnership”aziendali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ra tra aree e filiere contigue (Nord-Ovest) e con territori  aff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rco alpino e aree  transfrontalie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)  Maggior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stimenti in “know-how” e risorse umane qualifica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pprofittando anche delle positive ricad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tenzialmente derivanti dalla presenza sul territorio di Università e, per le imprese, soprattutto del Politecnic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dio e sviluppo di nuov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rumenti di “ingegneria finanziaria”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grado di dare risposte, a condizioni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rcato, alle caratteristiche peculiari delle piccole imprese valdostane o delle loro possibili aggregazion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3CE-F9F5-4D9D-8732-FA6D4362143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3224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9600" y="1778040"/>
            <a:ext cx="8660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po un 2005 di segno recessivo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sti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Unioncame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 l’anno 2006 sono di una netta ripresa (+1,7%)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 mettere in relazione sia all’andamento d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manda intern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1,8%) sia alla dinamica dell’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1,9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stualmente, è tornato a salire il livello dei prezzi, per la prima volta al di sopra dei valori medi nazionali dal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à degli Anni Novanta (rispettivamente +2,8, contro 1,9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ogo trend è stimato per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e aggiunto (+1,7%)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isultante da una crescita significativa dei settori d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stru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2,7%) e de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z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2,1%). Il valore aggiunto dell’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ustria evidenz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vece ancor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seppur inferiore rispetto a quella dell’anno precedente (-0,5% ),  così come quello prodotto dal compa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ricolo (-1,2%), comunque di minor peso quantitativ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previs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Unioncame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 il 200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ermano il trend positivo del P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gionale che farebbe registr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a crescita dell’1,6% in termini reali, lievemente al di sopra di quanto previsto per l’Italia nel suo compless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4738680"/>
          <a:ext cx="7467480" cy="1328760"/>
        </p:xfrm>
        <a:graphic>
          <a:graphicData uri="http://schemas.openxmlformats.org/drawingml/2006/table">
            <a:tbl>
              <a:tblPr/>
              <a:tblGrid>
                <a:gridCol w="1523880"/>
                <a:gridCol w="762120"/>
                <a:gridCol w="762120"/>
                <a:gridCol w="768240"/>
                <a:gridCol w="747720"/>
                <a:gridCol w="746280"/>
                <a:gridCol w="663480"/>
                <a:gridCol w="747720"/>
                <a:gridCol w="7459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le d’Ao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614880" y="6033960"/>
            <a:ext cx="20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*) Stime. Fonte: Unionca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9760" y="4357800"/>
            <a:ext cx="46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damento e previsione del PIL in Valle d’Aosta e in 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9840" y="1397160"/>
            <a:ext cx="25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PRODOTTO REG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081-61E4-4898-940B-F14705AC10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856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0360" y="4083120"/>
            <a:ext cx="8294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 2005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L pro-cap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Valle d’Aosta è d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irca 31 mila eur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quas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5% in pi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 valori corr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petto a due anni pri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so risulta superiore del 28% a quello medio nazionale, dell’8% a quello del Nord-Est e di quasi il 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quello del Nord-Ov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 2005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Valle d’Aosta risul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cond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izione nella graduatoria regionale dietro solo al Trentino-Al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ige, che mostra di un PIL pro-capite di oltre 32 mila euro (36.866 la Provincia Autonoma di Bolzano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52480" y="1339920"/>
            <a:ext cx="6027840" cy="266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CED-F4C6-4497-986A-503051904D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0856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1640" y="1601640"/>
            <a:ext cx="85809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valore aggiun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valdostano a prezzi corrent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nel 2005 è pari a 3,3 miliardi di eur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per quas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80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è prodo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al settore dei serviz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ttore industri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nel 2005 contribuisce alla produzione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co meno del 19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el valore aggiunto regional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circa proveniente dall’industria in senso stretto 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,6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al comparto delle costruz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ncora in contrazione il peso del settore agricolo che dall’1,4% del 2004 passa all’1,3% del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ispetto alla composizione nazionale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economia valdostana risulta sempre più terziarizzat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con un settore ed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ostanzialmente in linea con il dato nazionale e con un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parto manifatturier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a alcuni anni attestat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l di so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el 15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ad un livello pari a circa la metà di quello di Nord-Ovest e Nord-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3880" y="138420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VALORE AGGIU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3811680"/>
            <a:ext cx="8302680" cy="264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D95-DA69-42AD-B179-5601BA0993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452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9880" y="1652760"/>
            <a:ext cx="8472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umi finali inter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quadriennio 2000-2004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sco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Valle d’Aost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e a livello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14,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  nel 2004, a livello regionale, ammontano a quas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,5 miliardi di eu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versa resta invece la loro composizione tra alimentari e non, con una percentuale relativa d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umi alimenta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isam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 di sot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i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la media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ia del dat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le regioni settentrionali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5800" y="1424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 CON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61840" y="3197160"/>
            <a:ext cx="7507440" cy="267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ACA-DBA9-4090-B24E-0EF8AB0793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452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360" y="1681200"/>
            <a:ext cx="8507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stimenti fissi lord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5 so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stanzialmente allineat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 quelli dell’anno preced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 miliardo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uro)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 una lieve flessione di quelli in macchinari e attrezzature ed un lieve incremento di quelli in fabbricati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struz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ò nonostante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tasso di accumul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a Valle d’Aosta (rapporto%  tra investimenti fissi e valore aggiunto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zzi correnti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 mantie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nche nel 2005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n al di sop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 dato medio nazionale e di quelli del Nord Ita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o nel Trentino Alto Adige – ed in particolare nella provincia di Bolzano – l’indicatore supera quello valdostan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3193920"/>
            <a:ext cx="2844720" cy="297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71440" y="3117960"/>
            <a:ext cx="4986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valore medio de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trimonio per famigl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è  per la Valle d’Aosta pari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61  mila eur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contro i 341 m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uro della media  nazionale (+35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o la provincia d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la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videnzia un valore, seppur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co, superiore,  mentre Trento, con 446 mila euro e Bolzan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 435 mila, si collocano rispettivamente al 7° ed al 12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o nella graduatoria delle province italia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sizione del “patrimonio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e famiglie valdosta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utato da Unioncamere in 26,2 miliardi di euro, è per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beni real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terreni e fabbricati) e per la restante par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attiv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nanziari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cui 2/3 in valori mobiliar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4240" y="1376280"/>
            <a:ext cx="29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VESTIMENTI E PATRIMON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8A2-F9AD-4CEE-9CEE-49B3F928D4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0:13:18Z</dcterms:created>
  <dc:creator>Massimo</dc:creator>
  <dc:description/>
  <dc:language>en-US</dc:language>
  <cp:lastModifiedBy>PMinuzzo</cp:lastModifiedBy>
  <dcterms:modified xsi:type="dcterms:W3CDTF">2007-05-28T11:40:28Z</dcterms:modified>
  <cp:revision>144</cp:revision>
  <dc:subject/>
  <dc:title>GIORNATA DELL’ECONOMIA 200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80608011</vt:r8>
  </property>
  <property fmtid="{D5CDD505-2E9C-101B-9397-08002B2CF9AE}" pid="3" name="_AuthorEmail">
    <vt:lpwstr>ufficiostampa@cogne.com</vt:lpwstr>
  </property>
  <property fmtid="{D5CDD505-2E9C-101B-9397-08002B2CF9AE}" pid="4" name="_AuthorEmailDisplayName">
    <vt:lpwstr>Ufficio Stampa CAS</vt:lpwstr>
  </property>
  <property fmtid="{D5CDD505-2E9C-101B-9397-08002B2CF9AE}" pid="5" name="_EmailSubject">
    <vt:lpwstr>gioranta economia aggiornamento sito</vt:lpwstr>
  </property>
</Properties>
</file>